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C31-DA0A-4182-9559-9D635A3A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1F8-A7C4-4FD7-9F6F-043D09EE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1D75-8B8C-47A3-B054-C20C03BE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4A3A-5C34-4DF5-9E57-D3AA7C16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08B-A600-4090-942B-A1067CB2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FCF-5F93-4D6F-996C-31767846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7AE-592E-4ADD-8430-C54AA6B2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953-EED9-49B0-8E51-1B60A525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CE5-4A2C-4470-878E-4B7ADE61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E43-18F4-4A62-87C8-F9233A23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70C-C31B-4048-85CB-6ECE1F7E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BB69-7D92-4AF6-9DE9-BAC5737B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les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7AFC-AB44-4FBD-A17C-858BEA0A5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les Regular"/>
              </a:rPr>
              <a:t>4.6: Polynomial and Rational Inequalities</a:t>
            </a: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9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les Regular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polynomial ine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rational ine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les Regular"/>
              </a:rPr>
              <a:t>Solving polynomial inequalities</a:t>
            </a: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inequality so that zero is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inequality as if it were an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boundary number (the solutions you just found) to separate possible solutions into interv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est values or a graph to determine which intervals are greater or less than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ndles Regular"/>
              </a:rPr>
              <a:t>Solving polynomial equations (2)</a:t>
            </a:r>
            <a:endParaRPr b="0" lang="en-US" sz="36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2x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0" y="1676520"/>
          <a:ext cx="3962520" cy="408924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219320"/>
              </a:tblGrid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or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les Regular"/>
              </a:rPr>
              <a:t>Solving rational inequalities</a:t>
            </a: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inequality in the form of a rat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p(x)=0 and q(x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s are your boundary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 which intervals are positive and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les Regular"/>
              </a:rPr>
              <a:t>Solving rational inequalities (2)</a:t>
            </a: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0" y="1676520"/>
          <a:ext cx="3962520" cy="408924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219320"/>
              </a:tblGrid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or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ndles Regular"/>
              </a:rPr>
              <a:t>Assignment</a:t>
            </a:r>
            <a:endParaRPr b="0" lang="en-US" sz="4000" spc="-1" strike="noStrike">
              <a:solidFill>
                <a:srgbClr val="000000"/>
              </a:solidFill>
              <a:latin typeface="Candles Regula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332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5, 16,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36-46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7:01:52Z</dcterms:created>
  <dc:creator>nuhs</dc:creator>
  <dc:description/>
  <dc:language>en-US</dc:language>
  <cp:lastModifiedBy>nuhs</cp:lastModifiedBy>
  <dcterms:modified xsi:type="dcterms:W3CDTF">2008-02-19T21:13:22Z</dcterms:modified>
  <cp:revision>4</cp:revision>
  <dc:subject/>
  <dc:title>4.6: Polynomial and Rational Inequalities</dc:title>
</cp:coreProperties>
</file>